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626-6E55-479C-970E-839215F3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992-E605-4917-B669-1887BE8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BC6-820D-4C4B-8C7C-281F9270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AC7-AC78-4FEC-8532-94695877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D02-A61F-4FF2-8C4B-67112161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766-63A6-473F-83B7-80EFB4B1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F0B-B069-48A8-B09E-B556D188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F30-601A-42B0-8634-F9E27EBF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B92-CBA7-4E67-BE2C-BFC5B5A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F89-CA91-4571-B3F3-0ECCCDC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015-E4C5-4ACA-BC7A-7924A968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66A-FF77-4A29-B005-BFC70879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CB5A-6F31-412F-B9BE-940F2AFA4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23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990720"/>
            <a:ext cx="457200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23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body of  water completely surrounded by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body of land completely surrounded by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large body of water that extends into land and larger than a 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2590920" y="1676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5"/>
          <p:cNvSpPr/>
          <p:nvPr/>
        </p:nvSpPr>
        <p:spPr>
          <a:xfrm>
            <a:off x="2743200" y="23623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35053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u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http://classic.waterforecast.com/gulf/images/gulf_sat.jpg"/>
          <p:cNvPicPr/>
          <p:nvPr/>
        </p:nvPicPr>
        <p:blipFill>
          <a:blip r:embed="rId1"/>
          <a:stretch/>
        </p:blipFill>
        <p:spPr>
          <a:xfrm>
            <a:off x="0" y="3776760"/>
            <a:ext cx="4800600" cy="30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101worldtravel.com/wp-content/uploads/2011/05/robben-island-1.jpg"/>
          <p:cNvPicPr/>
          <p:nvPr/>
        </p:nvPicPr>
        <p:blipFill>
          <a:blip r:embed="rId2"/>
          <a:stretch/>
        </p:blipFill>
        <p:spPr>
          <a:xfrm>
            <a:off x="4578480" y="990720"/>
            <a:ext cx="456552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t0.gstatic.com/images?q=tbn:ANd9GcRw-sEOW6UJvPZNvWOFLQgyEp7mcTmum6r4UIQPydc5DKxBz1u3UZyJcDvw"/>
          <p:cNvPicPr/>
          <p:nvPr/>
        </p:nvPicPr>
        <p:blipFill>
          <a:blip r:embed="rId3"/>
          <a:srcRect l="0" t="8209" r="0" b="0"/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4572000" y="0"/>
            <a:ext cx="4572000" cy="916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on 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ink PEN    *Cover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ystery Island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3T15:33:45Z</dcterms:modified>
  <cp:revision>33</cp:revision>
  <dc:subject/>
  <dc:title>Slide 1</dc:title>
</cp:coreProperties>
</file>